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umroll.wav" ContentType="audio/x-wav"/>
  <Override PartName="/ppt/media/applause.wav" ContentType="audio/x-wav"/>
  <Override PartName="/ppt/media/ricochet.wav" ContentType="audio/x-wav"/>
  <Override PartName="/ppt/media/cashreg.wav" ContentType="audio/x-wav"/>
  <Override PartName="/ppt/media/driveby.wav" ContentType="audio/x-wav"/>
  <Override PartName="/ppt/media/image1.wmf" ContentType="image/x-wmf"/>
  <Override PartName="/ppt/media/carbrake.wav" ContentType="audio/x-wav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FD0-6C4C-4C2E-8AB5-8711A30F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210-C725-4359-9220-8F6B674E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202-CF8E-4DA3-9AA9-0B8EC241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218-D8A8-4D96-9EA4-D4BBCEAA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075-7BD6-4CDF-9706-D87B62ED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4170-A240-428C-AACB-551DD46B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BD97-EC3A-40FE-90C7-52F0CEE4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4E3-2548-4B8A-AD06-D58E4072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00CC-502D-415F-855C-015722F9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744-A503-4A19-9869-3D70D70D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1D3-92EA-4404-AB91-ECAF8A7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5F5-D715-4409-AD65-F5F8BAB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5F3-9CB5-45E1-AD50-043A43A3A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Eras Ultra ITC"/>
              </a:rPr>
              <a:t>Helping Verb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228600" y="763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Eras Medium ITC"/>
              </a:rPr>
              <a:t>Definition</a:t>
            </a:r>
            <a:r>
              <a:rPr b="1" lang="en-US" sz="6000" spc="-1" strike="noStrike">
                <a:solidFill>
                  <a:srgbClr val="ffffff"/>
                </a:solidFill>
                <a:latin typeface="Eras Medium ITC"/>
              </a:rPr>
              <a:t>:  helps the main verb express action or a state of being. </a:t>
            </a:r>
            <a:r>
              <a:rPr b="1" lang="en-US" sz="4800" spc="-1" strike="noStrike">
                <a:solidFill>
                  <a:srgbClr val="ff8d1b"/>
                </a:solidFill>
                <a:latin typeface="Eras Medium ITC"/>
              </a:rPr>
              <a:t>*labeled oran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52280" y="3630600"/>
            <a:ext cx="8839440" cy="31244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s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Eras Ultra ITC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Eras Ultra ITC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Eras Ultra ITC"/>
              </a:rPr>
              <a:t>- can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 speak                   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Ultra ITC"/>
              </a:rPr>
              <a:t>- will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 learn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Eras Ultra ITC"/>
              </a:rPr>
              <a:t>- should  have been</a:t>
            </a:r>
            <a:r>
              <a:rPr b="0" lang="en-US" sz="4400" spc="-1" strike="noStrike">
                <a:solidFill>
                  <a:srgbClr val="ffffff"/>
                </a:solidFill>
                <a:latin typeface="Eras Medium ITC"/>
              </a:rPr>
              <a:t> f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28600" y="7632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Together, the main verb and its helping verb or verbs are called a </a:t>
            </a:r>
            <a:r>
              <a:rPr b="1" lang="en-US" sz="5400" spc="-1" strike="noStrike">
                <a:solidFill>
                  <a:srgbClr val="ffffff"/>
                </a:solidFill>
                <a:latin typeface="Eras Ultra ITC"/>
              </a:rPr>
              <a:t>verb phrase</a:t>
            </a: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6320" y="3505320"/>
            <a:ext cx="8991360" cy="38372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s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- Many students</a:t>
            </a:r>
            <a:r>
              <a:rPr b="1" lang="en-US" sz="4000" spc="-1" strike="noStrike">
                <a:solidFill>
                  <a:srgbClr val="ffffff"/>
                </a:solidFill>
                <a:latin typeface="Eras Ultra ITC"/>
              </a:rPr>
              <a:t> can speak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Spanis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- I</a:t>
            </a:r>
            <a:r>
              <a:rPr b="1" lang="en-US" sz="4000" spc="-1" strike="noStrike">
                <a:solidFill>
                  <a:srgbClr val="ffffff"/>
                </a:solidFill>
                <a:latin typeface="Eras Ultra ITC"/>
              </a:rPr>
              <a:t> will be learning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about helping 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Eras Medium ITC"/>
              </a:rPr>
              <a:t>verbs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4"/>
          <p:cNvGraphicFramePr/>
          <p:nvPr/>
        </p:nvGraphicFramePr>
        <p:xfrm>
          <a:off x="228600" y="609480"/>
          <a:ext cx="87631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763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28600" y="152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Some words can be used as both helping verbs and main verb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6320" y="3048120"/>
            <a:ext cx="8991360" cy="360612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Helping Verb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I </a:t>
            </a:r>
            <a:r>
              <a:rPr b="0" lang="en-US" sz="4000" spc="-1" strike="noStrike">
                <a:solidFill>
                  <a:srgbClr val="ffffff"/>
                </a:solidFill>
                <a:latin typeface="Eras Ultra ITC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enjoy the mov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Main Verb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I will </a:t>
            </a:r>
            <a:r>
              <a:rPr b="0" lang="en-US" sz="4000" spc="-1" strike="noStrike">
                <a:solidFill>
                  <a:srgbClr val="ffffff"/>
                </a:solidFill>
                <a:latin typeface="Eras Ultra ITC"/>
              </a:rPr>
              <a:t>do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the dish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15228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Medium ITC"/>
              </a:rPr>
              <a:t>Sometimes a verb phrase is interrupted by another part of speec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6320" y="2819520"/>
            <a:ext cx="8991360" cy="383724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s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Students should not forget their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home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Did you call your friends this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week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28600" y="333360"/>
            <a:ext cx="8686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The word </a:t>
            </a:r>
            <a:r>
              <a:rPr b="1" i="1" lang="en-US" sz="4800" spc="-1" strike="noStrike">
                <a:solidFill>
                  <a:srgbClr val="ffffff"/>
                </a:solidFill>
                <a:latin typeface="Eras Ultra ITC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 and its contraction, -</a:t>
            </a:r>
            <a:r>
              <a:rPr b="1" i="1" lang="en-US" sz="4800" spc="-1" strike="noStrike">
                <a:solidFill>
                  <a:srgbClr val="ffffff"/>
                </a:solidFill>
                <a:latin typeface="Eras Ultra ITC"/>
              </a:rPr>
              <a:t>n’t</a:t>
            </a: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, are adverbs telling </a:t>
            </a:r>
            <a:r>
              <a:rPr b="1" i="1" lang="en-US" sz="4800" spc="-1" strike="noStrike">
                <a:solidFill>
                  <a:srgbClr val="ffffff"/>
                </a:solidFill>
                <a:latin typeface="Eras Ultra ITC"/>
              </a:rPr>
              <a:t>to what extent</a:t>
            </a:r>
            <a:r>
              <a:rPr b="1" lang="en-US" sz="4800" spc="-1" strike="noStrike">
                <a:solidFill>
                  <a:srgbClr val="ffffff"/>
                </a:solidFill>
                <a:latin typeface="Eras Medium ITC"/>
              </a:rPr>
              <a:t>; neither is part of a verb phra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6320" y="4038480"/>
            <a:ext cx="8915400" cy="2300760"/>
          </a:xfrm>
          <a:prstGeom prst="rect">
            <a:avLst/>
          </a:prstGeom>
          <a:noFill/>
          <a:ln w="44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Eras Medium ITC"/>
              </a:rPr>
              <a:t>Example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Eras Medium ITC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- Students should not forget their 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homewo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Helping Verbs are Orang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derline helping verbs orange and write “H” above each helping ver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j0212957"/>
          <p:cNvPicPr/>
          <p:nvPr/>
        </p:nvPicPr>
        <p:blipFill>
          <a:blip r:embed="rId1"/>
          <a:stretch/>
        </p:blipFill>
        <p:spPr>
          <a:xfrm>
            <a:off x="762120" y="3657600"/>
            <a:ext cx="7772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228600" y="0"/>
            <a:ext cx="8686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Eras Ultra ITC"/>
              </a:rPr>
              <a:t>Helping Verbs Song </a:t>
            </a:r>
            <a:r>
              <a:rPr b="1" lang="en-US" sz="4400" spc="-1" strike="noStrike">
                <a:solidFill>
                  <a:srgbClr val="ffffff"/>
                </a:solidFill>
                <a:latin typeface="Eras Medium ITC"/>
              </a:rPr>
              <a:t>(sung to the tune of “Jingle Bells”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2438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0" y="17524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ras Medium ITC"/>
              </a:rPr>
              <a:t>Helping verbs, helping verbs,                  There are twenty-three:                              AM, IS, ARE, WAS and WERE                BEING, BEEN, and BE….oh!                    HAVE, HAS, HAD, DO, DOES, DID,      SHALL, WILL, SHOULD, and WOULD.    There are five more helping verbs:         MAY, MIGHT, MUST, CAN, COUL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5T01:56:19Z</dcterms:created>
  <dc:creator>DAsh</dc:creator>
  <dc:description/>
  <dc:language>en-US</dc:language>
  <cp:lastModifiedBy>tanthony</cp:lastModifiedBy>
  <dcterms:modified xsi:type="dcterms:W3CDTF">2013-10-01T03:18:57Z</dcterms:modified>
  <cp:revision>5</cp:revision>
  <dc:subject/>
  <dc:title>PowerPoint Presentation</dc:title>
</cp:coreProperties>
</file>